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2F8-6DCD-40E2-BF0A-D0EE5104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EC7D-51A3-452C-98A5-4244B180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49F-D31D-4183-B012-BE0C5786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E23-46F7-400A-A417-EB241A37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97B-7CDE-448D-BCE4-33464DE3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476-4A7F-40BA-8E9C-B4AA8681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4BA9-5E73-462F-B896-593BBD78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686-7615-4110-AC02-8A83257E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201-0DAF-4471-AD86-D6102564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303-01BB-4837-B7B6-45C81030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02C-8312-411F-94AE-726AF54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2B3B-A209-4BF6-9A7D-8B889FCE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F9F5-C68D-40FD-B770-51F958A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866-7571-45AE-AA42-8393DA06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329-C464-432A-8CBA-2DFAC405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EE12-5BAB-4272-BDAC-9137778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22E7-DE64-429D-AAC8-90945C10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34A9-7166-4509-B0B2-2546B96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A9A-31AA-462E-A4F3-05284AFE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3EAD-509D-4838-9F8E-EC14C0E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1682-2779-4A1F-8C6B-FB76E96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7F12-1980-436F-B4B5-B4D7BDB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B0B-0257-4111-B598-4B87D779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3323-E032-4F55-99EC-A06B6F5D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F505-1273-45B5-B9C6-F33FA481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B920-61C4-4337-8FAE-E83BB0E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DFC4-EB9A-4E13-9550-AB5DE1CE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E219-73C4-43FC-B6F3-AD369D1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02B9-DB3F-4788-94DC-23737DD9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4C4-0A84-42E8-A6C1-D5AAC33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2F4C-8A00-4D54-9457-80F5272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603E-35F7-4E59-BCD5-B0457BF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16E9-A745-45B4-B749-2E24AAA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8196-003A-47E4-B2C0-270AEED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D56C-1944-4389-9018-B8B83ED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6DDA-0540-461C-BC4E-80118FA6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E548-E95F-484E-BDEC-892BA16D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338CC-904D-4D98-ADC6-5DD65C1C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2C924-8663-49DB-A2DC-D9D09F6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E3964-088C-4274-BC51-F66CD03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7DF-485C-44C5-B720-8A347CB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D74EE-BFE8-4B77-B978-4F241A0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5A198-D21C-4127-BC26-D90DE22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33A2D-CAEA-4789-81BD-277986C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BFD36-E7EF-4E6C-86AF-04091D7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C925E-46AA-4637-AEA9-F177E62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ECD5A-6C58-4AF7-9F28-85260C8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348CA-7B62-4654-9AEE-B81E958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43ACD-1EB6-4E83-B6C0-05DDD9AB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ED548-BDF9-4592-A589-B49DA971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AAB6-C0B1-484C-8F74-C776A4F9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CCF-0806-48AD-861B-121BB3D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DE16-CA61-4BED-A090-9B356E78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69482-9E45-43DF-AE88-3DD97FAE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7131-A7AF-4A5A-BECF-62A0E8E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29C0-8716-4AD5-8304-96F71D08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A58E-1DC6-4B66-A083-120D4C6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11E9-8696-4298-A19D-1BFAE39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93EC-D389-4BF5-9316-1282675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BA9F-9FAB-43F8-B370-903336B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12EB-56AF-481E-97D6-F605733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AC42-8892-42FE-818E-2D78BA68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239-21C3-4F48-866F-AE11AC23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4B3B-256A-4B42-840B-FEACFFAF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18004-DBE2-4625-B989-F4A56D37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C203B-51D8-4E0D-8799-828EDB5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61BB8-E191-4A7C-9EBD-B5B6788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76CC1-DCDE-4DDF-83BD-82AA3FBB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0C812-FD71-4AE3-86D8-8AF8303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6C8D6-87C3-42E8-B08E-A37FD29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759EC-058C-47A7-B90B-FA84C20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B83EB-86E6-4EB9-8073-0BC3E6B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2C6C1-E3CB-490B-80A4-768F0DA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CFB-A3C8-407A-B624-0520FDB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4B067-42B8-4176-BD36-4BBF6BA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72FF4-9681-4841-B6EB-FBC4D2C2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DB44C-CBBA-435E-AE5F-2701A0F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A3AC0-BA4C-498D-A2CD-75346859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7EE93-9350-4F46-96E6-D096EADF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E570C-4ECB-4019-BC8A-D544C48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41B32-F24B-4B31-ADA7-5990DE3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23271-5776-4A41-8FEA-CF0D0709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65425-2987-4D0B-A67C-31732457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BF7FA-4A1E-480C-BAD0-E1EF098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F12-ADC4-40D2-B85F-8128E27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F6182-6DA0-4F34-8354-242C38E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C639D-85EA-4C3E-BC23-946BC9C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C855C-9019-40AC-BCE6-2F134AA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E1122-20CD-46B3-917C-2C285481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77243-4DD9-4BBA-8B1E-38380C44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9225A-9C5B-4EF1-841D-FFD94DE8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628A7-1E77-480A-9FB6-D648EF9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D51A5-60AF-479B-827A-E1500E60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2D6D1-3E1E-4233-A681-6EF1C44E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50957-43C0-4F5D-BB39-C065467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991-9BA7-4576-9D6B-760E7D8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6D2BE-6D43-4AC6-9691-4FEE96F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6E85D-8A5F-4921-8406-9E0D191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AE953-6D39-462F-AB15-C34A25C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D2FB8-194A-419A-9A0C-BE1B22CA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4DFDF-8545-43AE-9606-873B6B1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CAD6F-6E67-4743-9979-1CF3B7E4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9EEC9-6B21-4755-9575-3769F13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8FDD-7C7C-4E94-8948-74C5EB79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6417-FA7E-44D9-B9A7-96D5E4BAC0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740A-FF46-41F0-87DC-9D1EED8A2B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0BB-5A3E-4D04-B727-4D8AE8E4F6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1434-8D81-43CF-8DC1-5E51421355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595-D53A-4792-9861-922E36F985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A26-37F4-4EC3-8EB1-FCC185B9DE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73E-D0EE-4A96-9B93-F3633E149D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ED, PEDE, PEDESTRI, PEDI, PEDO, POD, PU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o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ent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estri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ic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d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diatr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ped/b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cto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latyp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ip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centipede.jpg"/>
          <p:cNvPicPr/>
          <p:nvPr/>
        </p:nvPicPr>
        <p:blipFill>
          <a:blip r:embed="rId1"/>
          <a:stretch/>
        </p:blipFill>
        <p:spPr>
          <a:xfrm>
            <a:off x="2895480" y="320040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podiatrist.jpg"/>
          <p:cNvPicPr/>
          <p:nvPr/>
        </p:nvPicPr>
        <p:blipFill>
          <a:blip r:embed="rId2"/>
          <a:stretch/>
        </p:blipFill>
        <p:spPr>
          <a:xfrm>
            <a:off x="304920" y="3276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pedal.jpg"/>
          <p:cNvPicPr/>
          <p:nvPr/>
        </p:nvPicPr>
        <p:blipFill>
          <a:blip r:embed="rId3"/>
          <a:stretch/>
        </p:blipFill>
        <p:spPr>
          <a:xfrm>
            <a:off x="7391520" y="28954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pedestrian.jpg"/>
          <p:cNvPicPr/>
          <p:nvPr/>
        </p:nvPicPr>
        <p:blipFill>
          <a:blip r:embed="rId4"/>
          <a:stretch/>
        </p:blipFill>
        <p:spPr>
          <a:xfrm>
            <a:off x="7315200" y="3808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pedicure.jpg"/>
          <p:cNvPicPr/>
          <p:nvPr/>
        </p:nvPicPr>
        <p:blipFill>
          <a:blip r:embed="rId5"/>
          <a:stretch/>
        </p:blipFill>
        <p:spPr>
          <a:xfrm>
            <a:off x="2057400" y="487692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platypus.jpg"/>
          <p:cNvPicPr/>
          <p:nvPr/>
        </p:nvPicPr>
        <p:blipFill>
          <a:blip r:embed="rId6"/>
          <a:stretch/>
        </p:blipFill>
        <p:spPr>
          <a:xfrm>
            <a:off x="3124080" y="12193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tripod.jpg"/>
          <p:cNvPicPr/>
          <p:nvPr/>
        </p:nvPicPr>
        <p:blipFill>
          <a:blip r:embed="rId7"/>
          <a:stretch/>
        </p:blipFill>
        <p:spPr>
          <a:xfrm>
            <a:off x="304920" y="52578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NT, PEN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thl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g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nt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pentagon.jpg"/>
          <p:cNvPicPr/>
          <p:nvPr/>
        </p:nvPicPr>
        <p:blipFill>
          <a:blip r:embed="rId1"/>
          <a:stretch/>
        </p:blipFill>
        <p:spPr>
          <a:xfrm>
            <a:off x="7086600" y="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pentagonn.jpg"/>
          <p:cNvPicPr/>
          <p:nvPr/>
        </p:nvPicPr>
        <p:blipFill>
          <a:blip r:embed="rId2"/>
          <a:stretch/>
        </p:blipFill>
        <p:spPr>
          <a:xfrm>
            <a:off x="6019920" y="3352680"/>
            <a:ext cx="2361960" cy="210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pentameter.jpg"/>
          <p:cNvPicPr/>
          <p:nvPr/>
        </p:nvPicPr>
        <p:blipFill>
          <a:blip r:embed="rId3"/>
          <a:stretch/>
        </p:blipFill>
        <p:spPr>
          <a:xfrm>
            <a:off x="5335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pentathlon.jpg"/>
          <p:cNvPicPr/>
          <p:nvPr/>
        </p:nvPicPr>
        <p:blipFill>
          <a:blip r:embed="rId4"/>
          <a:stretch/>
        </p:blipFill>
        <p:spPr>
          <a:xfrm>
            <a:off x="2514600" y="449568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ntathlonn.jpg"/>
          <p:cNvPicPr/>
          <p:nvPr/>
        </p:nvPicPr>
        <p:blipFill>
          <a:blip r:embed="rId5"/>
          <a:stretch/>
        </p:blipFill>
        <p:spPr>
          <a:xfrm>
            <a:off x="380880" y="4419720"/>
            <a:ext cx="16765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ER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o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circl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gee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ge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earth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iph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apogee.jpg"/>
          <p:cNvPicPr/>
          <p:nvPr/>
        </p:nvPicPr>
        <p:blipFill>
          <a:blip r:embed="rId1"/>
          <a:stretch/>
        </p:blipFill>
        <p:spPr>
          <a:xfrm>
            <a:off x="304920" y="42670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riscope.jpg"/>
          <p:cNvPicPr/>
          <p:nvPr/>
        </p:nvPicPr>
        <p:blipFill>
          <a:blip r:embed="rId2"/>
          <a:stretch/>
        </p:blipFill>
        <p:spPr>
          <a:xfrm>
            <a:off x="3429000" y="30481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ripheral.jpg"/>
          <p:cNvPicPr/>
          <p:nvPr/>
        </p:nvPicPr>
        <p:blipFill>
          <a:blip r:embed="rId3"/>
          <a:stretch/>
        </p:blipFill>
        <p:spPr>
          <a:xfrm>
            <a:off x="3124080" y="2286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riscopee.jpg"/>
          <p:cNvPicPr/>
          <p:nvPr/>
        </p:nvPicPr>
        <p:blipFill>
          <a:blip r:embed="rId4"/>
          <a:stretch/>
        </p:blipFill>
        <p:spPr>
          <a:xfrm>
            <a:off x="5943600" y="480060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rimeter.jpg"/>
          <p:cNvPicPr/>
          <p:nvPr/>
        </p:nvPicPr>
        <p:blipFill>
          <a:blip r:embed="rId5"/>
          <a:stretch/>
        </p:blipFill>
        <p:spPr>
          <a:xfrm>
            <a:off x="7010280" y="152280"/>
            <a:ext cx="1562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IL, PHILE, PHILIA, PHIL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lo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v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ndn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anthropist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i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one who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bli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hilosop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ecrophil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* Hemophilia (uncontrollable bleed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5" descr="bibliophile.jpg"/>
          <p:cNvPicPr/>
          <p:nvPr/>
        </p:nvPicPr>
        <p:blipFill>
          <a:blip r:embed="rId1"/>
          <a:stretch/>
        </p:blipFill>
        <p:spPr>
          <a:xfrm>
            <a:off x="3048120" y="2362320"/>
            <a:ext cx="1942920" cy="1218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philanthropist.jpg"/>
          <p:cNvPicPr/>
          <p:nvPr/>
        </p:nvPicPr>
        <p:blipFill>
          <a:blip r:embed="rId2"/>
          <a:stretch/>
        </p:blipFill>
        <p:spPr>
          <a:xfrm>
            <a:off x="533520" y="396252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ilanthroistt.jpg"/>
          <p:cNvPicPr/>
          <p:nvPr/>
        </p:nvPicPr>
        <p:blipFill>
          <a:blip r:embed="rId3"/>
          <a:stretch/>
        </p:blipFill>
        <p:spPr>
          <a:xfrm>
            <a:off x="3048120" y="4952880"/>
            <a:ext cx="20574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OBE, PHOB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normal fe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tr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lik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glopho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laust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laust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confine; close; shu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y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pyr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fir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enophobi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oophobia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zoo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=animal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zoophobiaaa.jpg"/>
          <p:cNvPicPr/>
          <p:nvPr/>
        </p:nvPicPr>
        <p:blipFill>
          <a:blip r:embed="rId1"/>
          <a:stretch/>
        </p:blipFill>
        <p:spPr>
          <a:xfrm>
            <a:off x="7315200" y="3886200"/>
            <a:ext cx="1600200" cy="1352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zoophobiaa.jpg"/>
          <p:cNvPicPr/>
          <p:nvPr/>
        </p:nvPicPr>
        <p:blipFill>
          <a:blip r:embed="rId2"/>
          <a:stretch/>
        </p:blipFill>
        <p:spPr>
          <a:xfrm>
            <a:off x="3200400" y="22860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zoophobia.jpg"/>
          <p:cNvPicPr/>
          <p:nvPr/>
        </p:nvPicPr>
        <p:blipFill>
          <a:blip r:embed="rId3"/>
          <a:stretch/>
        </p:blipFill>
        <p:spPr>
          <a:xfrm>
            <a:off x="2743200" y="3962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laustrophobia.jpg"/>
          <p:cNvPicPr/>
          <p:nvPr/>
        </p:nvPicPr>
        <p:blipFill>
          <a:blip r:embed="rId4"/>
          <a:stretch/>
        </p:blipFill>
        <p:spPr>
          <a:xfrm>
            <a:off x="22860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ydrophobia.jpg"/>
          <p:cNvPicPr/>
          <p:nvPr/>
        </p:nvPicPr>
        <p:blipFill>
          <a:blip r:embed="rId5"/>
          <a:stretch/>
        </p:blipFill>
        <p:spPr>
          <a:xfrm>
            <a:off x="228600" y="5181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pyrophobia.jpg"/>
          <p:cNvPicPr/>
          <p:nvPr/>
        </p:nvPicPr>
        <p:blipFill>
          <a:blip r:embed="rId6"/>
          <a:stretch/>
        </p:blipFill>
        <p:spPr>
          <a:xfrm>
            <a:off x="6553080" y="228600"/>
            <a:ext cx="180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8-12-27T05:53:36Z</dcterms:modified>
  <cp:revision>30</cp:revision>
  <dc:subject/>
  <dc:title>Roots List #1</dc:title>
</cp:coreProperties>
</file>